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770B7-F52B-4F56-91F9-FB90F1D84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BC5B4-9066-4C2E-A1BF-E85008BC7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ECDCB-46B2-485E-BA0D-768E84B6D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C0A4C-E3DF-4EFB-80EC-8AE19E824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B24B7-874B-4327-86C3-30AEB3C83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444E-8148-479B-9495-F96334B57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63CA-45DF-4071-A827-334662527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41AA-F097-4EB0-8C81-9D983BC87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9D76-0207-461C-A674-FAE2D4A80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EF40-A9FB-45E6-8DF6-68975C73E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76C4-7540-4FBE-B31D-B26DDE8D7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67F7-A32C-4381-8036-510EB8457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F5DC-EB3D-4DA5-9830-009110D86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8CD9-C382-46C9-9359-6C32DF53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9F41-A5F5-4BEC-B745-F3DBE3B4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319B-BA3B-44C6-9026-F0E8D842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76AF-F176-4301-8E78-DFF72EE0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26104-A58F-4D71-A374-A924677E8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Arial"/>
              </a:rPr>
              <a:t>Neural Network for Image Class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Shenbagaraman Ramakrishn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Arturo Pri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Lucas Ferrei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e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CNN architecture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.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the fully connected layer, including a hardware friendly sigmoid activ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LSI LAB Grade 4 / 5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7168"/>
          <p:cNvGrpSpPr/>
          <p:nvPr/>
        </p:nvGrpSpPr>
        <p:grpSpPr>
          <a:xfrm>
            <a:off x="971640" y="2055960"/>
            <a:ext cx="7521480" cy="2746080"/>
            <a:chOff x="971640" y="2055960"/>
            <a:chExt cx="7521480" cy="2746080"/>
          </a:xfrm>
        </p:grpSpPr>
        <p:sp>
          <p:nvSpPr>
            <p:cNvPr id="99" name="Rectangle 5"/>
            <p:cNvSpPr/>
            <p:nvPr/>
          </p:nvSpPr>
          <p:spPr>
            <a:xfrm>
              <a:off x="1488960" y="2425680"/>
              <a:ext cx="287280" cy="237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6"/>
            <p:cNvSpPr/>
            <p:nvPr/>
          </p:nvSpPr>
          <p:spPr>
            <a:xfrm>
              <a:off x="3289320" y="2425680"/>
              <a:ext cx="287280" cy="237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7"/>
            <p:cNvSpPr/>
            <p:nvPr/>
          </p:nvSpPr>
          <p:spPr>
            <a:xfrm>
              <a:off x="4297320" y="2425680"/>
              <a:ext cx="287280" cy="237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8"/>
            <p:cNvSpPr/>
            <p:nvPr/>
          </p:nvSpPr>
          <p:spPr>
            <a:xfrm>
              <a:off x="6078600" y="2425680"/>
              <a:ext cx="288720" cy="237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9"/>
            <p:cNvSpPr/>
            <p:nvPr/>
          </p:nvSpPr>
          <p:spPr>
            <a:xfrm>
              <a:off x="8132760" y="3314520"/>
              <a:ext cx="360360" cy="3603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Box 5"/>
            <p:cNvSpPr/>
            <p:nvPr/>
          </p:nvSpPr>
          <p:spPr>
            <a:xfrm>
              <a:off x="971640" y="2055960"/>
              <a:ext cx="154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Convolu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Box 11"/>
            <p:cNvSpPr/>
            <p:nvPr/>
          </p:nvSpPr>
          <p:spPr>
            <a:xfrm>
              <a:off x="2851920" y="2055960"/>
              <a:ext cx="154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Pool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Box 12"/>
            <p:cNvSpPr/>
            <p:nvPr/>
          </p:nvSpPr>
          <p:spPr>
            <a:xfrm>
              <a:off x="4152960" y="2055960"/>
              <a:ext cx="68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FC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Box 13"/>
            <p:cNvSpPr/>
            <p:nvPr/>
          </p:nvSpPr>
          <p:spPr>
            <a:xfrm>
              <a:off x="5900760" y="2055960"/>
              <a:ext cx="80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FC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8" name="Straight Arrow Connector 14"/>
            <p:cNvCxnSpPr/>
            <p:nvPr/>
          </p:nvCxnSpPr>
          <p:spPr>
            <a:xfrm>
              <a:off x="1775880" y="3468240"/>
              <a:ext cx="4006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9" name="Rectangle 15"/>
            <p:cNvSpPr/>
            <p:nvPr/>
          </p:nvSpPr>
          <p:spPr>
            <a:xfrm>
              <a:off x="2228760" y="3217680"/>
              <a:ext cx="572760" cy="502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REL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6"/>
            <p:cNvSpPr/>
            <p:nvPr/>
          </p:nvSpPr>
          <p:spPr>
            <a:xfrm>
              <a:off x="6838920" y="3243240"/>
              <a:ext cx="874440" cy="502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SIGMOI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1" name="Straight Arrow Connector 17"/>
            <p:cNvCxnSpPr/>
            <p:nvPr/>
          </p:nvCxnSpPr>
          <p:spPr>
            <a:xfrm>
              <a:off x="2801520" y="3468240"/>
              <a:ext cx="4006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2" name="Straight Arrow Connector 18"/>
            <p:cNvCxnSpPr/>
            <p:nvPr/>
          </p:nvCxnSpPr>
          <p:spPr>
            <a:xfrm>
              <a:off x="3576600" y="3468240"/>
              <a:ext cx="6688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3" name="Straight Arrow Connector 19"/>
            <p:cNvCxnSpPr/>
            <p:nvPr/>
          </p:nvCxnSpPr>
          <p:spPr>
            <a:xfrm>
              <a:off x="4579560" y="3466800"/>
              <a:ext cx="4402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4" name="Rectangle 20"/>
            <p:cNvSpPr/>
            <p:nvPr/>
          </p:nvSpPr>
          <p:spPr>
            <a:xfrm>
              <a:off x="5070600" y="3216240"/>
              <a:ext cx="574560" cy="504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REL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5" name="Straight Arrow Connector 21"/>
            <p:cNvCxnSpPr/>
            <p:nvPr/>
          </p:nvCxnSpPr>
          <p:spPr>
            <a:xfrm>
              <a:off x="5644800" y="3466800"/>
              <a:ext cx="4006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6" name="Straight Arrow Connector 22"/>
            <p:cNvCxnSpPr/>
            <p:nvPr/>
          </p:nvCxnSpPr>
          <p:spPr>
            <a:xfrm>
              <a:off x="6367680" y="3466800"/>
              <a:ext cx="3988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7" name="Straight Arrow Connector 23"/>
            <p:cNvCxnSpPr/>
            <p:nvPr/>
          </p:nvCxnSpPr>
          <p:spPr>
            <a:xfrm>
              <a:off x="7713720" y="3495240"/>
              <a:ext cx="3988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8" name="TextBox 7167"/>
            <p:cNvSpPr/>
            <p:nvPr/>
          </p:nvSpPr>
          <p:spPr>
            <a:xfrm>
              <a:off x="2189880" y="2779200"/>
              <a:ext cx="73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61x6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37"/>
            <p:cNvSpPr/>
            <p:nvPr/>
          </p:nvSpPr>
          <p:spPr>
            <a:xfrm>
              <a:off x="3688200" y="2779200"/>
              <a:ext cx="49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4x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Box 38"/>
            <p:cNvSpPr/>
            <p:nvPr/>
          </p:nvSpPr>
          <p:spPr>
            <a:xfrm>
              <a:off x="5109480" y="2779200"/>
              <a:ext cx="49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3x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Box 39"/>
            <p:cNvSpPr/>
            <p:nvPr/>
          </p:nvSpPr>
          <p:spPr>
            <a:xfrm>
              <a:off x="6997320" y="2779200"/>
              <a:ext cx="48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1x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3"/>
          <p:cNvSpPr/>
          <p:nvPr/>
        </p:nvSpPr>
        <p:spPr>
          <a:xfrm>
            <a:off x="826920" y="1628640"/>
            <a:ext cx="3359160" cy="3672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8"/>
          <p:cNvSpPr/>
          <p:nvPr/>
        </p:nvSpPr>
        <p:spPr>
          <a:xfrm>
            <a:off x="1990440" y="535932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1"/>
          <p:cNvSpPr/>
          <p:nvPr/>
        </p:nvSpPr>
        <p:spPr>
          <a:xfrm>
            <a:off x="4230720" y="1628640"/>
            <a:ext cx="4394160" cy="3672000"/>
          </a:xfrm>
          <a:prstGeom prst="rect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9"/>
          <p:cNvSpPr/>
          <p:nvPr/>
        </p:nvSpPr>
        <p:spPr>
          <a:xfrm>
            <a:off x="6148080" y="535932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45720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es to be creat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RAM_IP_TOP initialize the distributed memory with the .coe files (use the Matlab script provid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e the ifmaps as .coe files into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the Conv_Controller for reading from the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 the PE_TOP with 4 PE’s to setup element wise multi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umulator : To accumulate the ps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U : Linear activ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ory IP Specif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IP catalog search for distributed memory generato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y Depth(#Addresses): 16, and Data Width: 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ad the coefficient file for one single image (output of the Matlab scrip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e options: Radi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eat for all 4 RAM in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EP NEURAL NET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ult tolerant ; loss of few neurons doesn’t affect the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extract high level features from raw sensory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ior Accuracy =&gt; High computational complex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and I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ep Convolutional Neural Net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Content Placeholder 3" descr=""/>
          <p:cNvPicPr/>
          <p:nvPr/>
        </p:nvPicPr>
        <p:blipFill>
          <a:blip r:embed="rId1"/>
          <a:stretch/>
        </p:blipFill>
        <p:spPr>
          <a:xfrm>
            <a:off x="646200" y="1628640"/>
            <a:ext cx="7873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Content Placeholder 7" descr=""/>
          <p:cNvPicPr/>
          <p:nvPr/>
        </p:nvPicPr>
        <p:blipFill>
          <a:blip r:embed="rId1"/>
          <a:stretch/>
        </p:blipFill>
        <p:spPr>
          <a:xfrm>
            <a:off x="179280" y="2228760"/>
            <a:ext cx="4586400" cy="207648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8" descr=""/>
          <p:cNvPicPr/>
          <p:nvPr/>
        </p:nvPicPr>
        <p:blipFill>
          <a:blip r:embed="rId2"/>
          <a:stretch/>
        </p:blipFill>
        <p:spPr>
          <a:xfrm>
            <a:off x="4915080" y="2228760"/>
            <a:ext cx="422892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O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Content Placeholder 10" descr=""/>
          <p:cNvPicPr/>
          <p:nvPr/>
        </p:nvPicPr>
        <p:blipFill>
          <a:blip r:embed="rId1"/>
          <a:stretch/>
        </p:blipFill>
        <p:spPr>
          <a:xfrm>
            <a:off x="1035000" y="1928880"/>
            <a:ext cx="7096320" cy="39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Arial"/>
              </a:rPr>
              <a:t>IC Project 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457200" y="1531800"/>
            <a:ext cx="825192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Classification identifying squares or circles from a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Black and white 64x64 pix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1000 testing pi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172" descr=""/>
          <p:cNvPicPr/>
          <p:nvPr/>
        </p:nvPicPr>
        <p:blipFill>
          <a:blip r:embed="rId1"/>
          <a:stretch/>
        </p:blipFill>
        <p:spPr>
          <a:xfrm>
            <a:off x="5316480" y="3968640"/>
            <a:ext cx="2340000" cy="2340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174" descr=""/>
          <p:cNvPicPr/>
          <p:nvPr/>
        </p:nvPicPr>
        <p:blipFill>
          <a:blip r:embed="rId2"/>
          <a:stretch/>
        </p:blipFill>
        <p:spPr>
          <a:xfrm>
            <a:off x="1487520" y="3968640"/>
            <a:ext cx="234000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Arial"/>
              </a:rPr>
              <a:t>Neural Network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457200" y="1341360"/>
            <a:ext cx="8251920" cy="22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Convolutional filter 4x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Pooling filter 15x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67 weights (16 conv, 48 FC1 &amp; 3 FC2) and 5 bias (1 conv, 3 FC1 &amp; 1 FC2)</a:t>
            </a: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7168"/>
          <p:cNvGrpSpPr/>
          <p:nvPr/>
        </p:nvGrpSpPr>
        <p:grpSpPr>
          <a:xfrm>
            <a:off x="811080" y="3618000"/>
            <a:ext cx="7521840" cy="2746440"/>
            <a:chOff x="811080" y="3618000"/>
            <a:chExt cx="7521840" cy="2746440"/>
          </a:xfrm>
        </p:grpSpPr>
        <p:sp>
          <p:nvSpPr>
            <p:cNvPr id="66" name="Rectangle 3"/>
            <p:cNvSpPr/>
            <p:nvPr/>
          </p:nvSpPr>
          <p:spPr>
            <a:xfrm>
              <a:off x="1328400" y="3987720"/>
              <a:ext cx="287280" cy="237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128760" y="3987720"/>
              <a:ext cx="287280" cy="237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4137120" y="3987720"/>
              <a:ext cx="287280" cy="237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5918400" y="3987720"/>
              <a:ext cx="288720" cy="237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7972560" y="4876920"/>
              <a:ext cx="360360" cy="3603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Box 5"/>
            <p:cNvSpPr/>
            <p:nvPr/>
          </p:nvSpPr>
          <p:spPr>
            <a:xfrm>
              <a:off x="811080" y="3618000"/>
              <a:ext cx="154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Convolu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Box 11"/>
            <p:cNvSpPr/>
            <p:nvPr/>
          </p:nvSpPr>
          <p:spPr>
            <a:xfrm>
              <a:off x="2691360" y="3618000"/>
              <a:ext cx="154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Pool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Box 12"/>
            <p:cNvSpPr/>
            <p:nvPr/>
          </p:nvSpPr>
          <p:spPr>
            <a:xfrm>
              <a:off x="3992760" y="3618000"/>
              <a:ext cx="68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FC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Box 13"/>
            <p:cNvSpPr/>
            <p:nvPr/>
          </p:nvSpPr>
          <p:spPr>
            <a:xfrm>
              <a:off x="5740560" y="3618000"/>
              <a:ext cx="80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FC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5" name="Straight Arrow Connector 10"/>
            <p:cNvCxnSpPr/>
            <p:nvPr/>
          </p:nvCxnSpPr>
          <p:spPr>
            <a:xfrm>
              <a:off x="1615320" y="5030640"/>
              <a:ext cx="4006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6" name="Rectangle 15"/>
            <p:cNvSpPr/>
            <p:nvPr/>
          </p:nvSpPr>
          <p:spPr>
            <a:xfrm>
              <a:off x="2068200" y="4780080"/>
              <a:ext cx="573120" cy="503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REL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19"/>
            <p:cNvSpPr/>
            <p:nvPr/>
          </p:nvSpPr>
          <p:spPr>
            <a:xfrm>
              <a:off x="6678720" y="4805280"/>
              <a:ext cx="874440" cy="503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SIGMOI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Straight Arrow Connector 23"/>
            <p:cNvCxnSpPr/>
            <p:nvPr/>
          </p:nvCxnSpPr>
          <p:spPr>
            <a:xfrm>
              <a:off x="2640960" y="5030640"/>
              <a:ext cx="4006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" name="Straight Arrow Connector 24"/>
            <p:cNvCxnSpPr/>
            <p:nvPr/>
          </p:nvCxnSpPr>
          <p:spPr>
            <a:xfrm>
              <a:off x="3416040" y="5030640"/>
              <a:ext cx="6688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0" name="Straight Arrow Connector 27"/>
            <p:cNvCxnSpPr/>
            <p:nvPr/>
          </p:nvCxnSpPr>
          <p:spPr>
            <a:xfrm>
              <a:off x="4419360" y="5028840"/>
              <a:ext cx="4402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1" name="Rectangle 28"/>
            <p:cNvSpPr/>
            <p:nvPr/>
          </p:nvSpPr>
          <p:spPr>
            <a:xfrm>
              <a:off x="4910040" y="4778640"/>
              <a:ext cx="574560" cy="504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REL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2" name="Straight Arrow Connector 29"/>
            <p:cNvCxnSpPr/>
            <p:nvPr/>
          </p:nvCxnSpPr>
          <p:spPr>
            <a:xfrm>
              <a:off x="5484600" y="5028840"/>
              <a:ext cx="4006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3" name="Straight Arrow Connector 32"/>
            <p:cNvCxnSpPr/>
            <p:nvPr/>
          </p:nvCxnSpPr>
          <p:spPr>
            <a:xfrm>
              <a:off x="6207120" y="5028840"/>
              <a:ext cx="3988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" name="Straight Arrow Connector 33"/>
            <p:cNvCxnSpPr/>
            <p:nvPr/>
          </p:nvCxnSpPr>
          <p:spPr>
            <a:xfrm>
              <a:off x="7553520" y="5057640"/>
              <a:ext cx="3988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5" name="TextBox 7167"/>
            <p:cNvSpPr/>
            <p:nvPr/>
          </p:nvSpPr>
          <p:spPr>
            <a:xfrm>
              <a:off x="2029320" y="4341240"/>
              <a:ext cx="73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61x6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Box 37"/>
            <p:cNvSpPr/>
            <p:nvPr/>
          </p:nvSpPr>
          <p:spPr>
            <a:xfrm>
              <a:off x="3527640" y="4341240"/>
              <a:ext cx="49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4x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Box 38"/>
            <p:cNvSpPr/>
            <p:nvPr/>
          </p:nvSpPr>
          <p:spPr>
            <a:xfrm>
              <a:off x="4949280" y="4341240"/>
              <a:ext cx="49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3x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Box 39"/>
            <p:cNvSpPr/>
            <p:nvPr/>
          </p:nvSpPr>
          <p:spPr>
            <a:xfrm>
              <a:off x="6837120" y="4341240"/>
              <a:ext cx="48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1x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Arial"/>
              </a:rPr>
              <a:t>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rcRect l="20864" t="14806" r="29526" b="5899"/>
          <a:stretch/>
        </p:blipFill>
        <p:spPr>
          <a:xfrm>
            <a:off x="1332000" y="1125360"/>
            <a:ext cx="5184720" cy="517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6969240" y="2708280"/>
          <a:ext cx="1685880" cy="669960"/>
        </p:xfrm>
        <a:graphic>
          <a:graphicData uri="http://schemas.openxmlformats.org/drawingml/2006/table">
            <a:tbl>
              <a:tblPr/>
              <a:tblGrid>
                <a:gridCol w="1685880"/>
              </a:tblGrid>
              <a:tr h="3348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0 µm</a:t>
                      </a:r>
                      <a:r>
                        <a:rPr b="0" lang="es-E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6969240" y="3378240"/>
          <a:ext cx="1685880" cy="671400"/>
        </p:xfrm>
        <a:graphic>
          <a:graphicData uri="http://schemas.openxmlformats.org/drawingml/2006/table">
            <a:tbl>
              <a:tblPr/>
              <a:tblGrid>
                <a:gridCol w="1685880"/>
              </a:tblGrid>
              <a:tr h="3366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EQUEN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48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 MH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e 4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000" y="1628640"/>
            <a:ext cx="8351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 the IP’s to the top module and Understand the flow by the running behavioral sim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is as a reference module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your own convolution, ReLu, and Max-pool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 this convolutional layer for 10 different im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09:21:16Z</dcterms:created>
  <dc:creator>jrs</dc:creator>
  <dc:description/>
  <dc:language>en-US</dc:language>
  <cp:lastModifiedBy>Lucas Santos Ferreira</cp:lastModifiedBy>
  <dcterms:modified xsi:type="dcterms:W3CDTF">2019-10-07T11:43:22Z</dcterms:modified>
  <cp:revision>100</cp:revision>
  <dc:subject/>
  <dc:title>Project Name</dc:title>
</cp:coreProperties>
</file>