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5B1-E092-4AA0-AFE0-49835129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ED0-7358-45C8-8098-4381F2CB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E8F-B8B8-4604-850B-F5B11E81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CA9-94F9-4C11-8104-2EFE352A2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2839-F752-4713-B427-1B85015E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81D7-9189-4F06-A399-71068DB5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9D2A-C510-4ABB-920D-4DEF61AE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7179-FF26-426D-A5C0-6FAD7A50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D24E-8A5B-4F33-B183-4D764EF7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DEDB-276F-42CF-909B-06FB5051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199C-380D-440B-8522-6C966C0B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CF3F-163A-4671-8F51-D9E80399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06FC-E9EF-4D4C-9EF3-993E3C72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7190-3747-4719-9AD5-8B6955E7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14AE-93D0-468A-9FFB-7F780B79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FC91-CEC3-458E-B1ED-BF3DF62D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4BDA-CAF2-4CCC-899A-E8B202B1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B5B-920C-4528-9B32-85507F0B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51C-4017-476D-95E4-01F914B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655-299A-4B37-AFFA-22189341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EC3-3192-43E9-A626-21F7F326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0AB-412C-44F3-92A8-E55F1D3B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A18-6748-4A77-B4A5-CA354A14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4C2-F0C8-401D-851B-C3A5427D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2007-02-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Digital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65527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2418-5A72-4388-AD41-E0F88C7A4836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29400" y="6534000"/>
            <a:ext cx="1905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USB Data Acquisition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Digital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40B1-171C-4107-A57A-07A297E08167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1294920"/>
            <a:ext cx="441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USB Data Acquisition Card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19320" y="4114440"/>
            <a:ext cx="39621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esented By: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ernhard May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Joe Evan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20A9-4218-4D92-B341-5B41DA738B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1240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80808"/>
                </a:solidFill>
                <a:latin typeface="Times New Roman"/>
              </a:rPr>
              <a:t>Questions!!!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214308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CCE-FC93-43FA-A6B9-D60BF049F8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oject Overview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USB Basic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USBN9604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chematic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LibUSB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19520" y="1679400"/>
            <a:ext cx="6781680" cy="508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FF4-499D-4147-AFDB-A12E97B692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roject overview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USB data interface MC &lt;-&gt; P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vices: Atmega32 + USBN9604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ftware Client - Interface 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154360" y="472428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80808"/>
                </a:solidFill>
                <a:latin typeface="Arial"/>
              </a:rPr>
              <a:t>Analog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80808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752480" y="3200400"/>
            <a:ext cx="7251840" cy="3200400"/>
            <a:chOff x="1752480" y="3200400"/>
            <a:chExt cx="7251840" cy="3200400"/>
          </a:xfrm>
        </p:grpSpPr>
        <p:sp>
          <p:nvSpPr>
            <p:cNvPr id="92" name=""/>
            <p:cNvSpPr/>
            <p:nvPr/>
          </p:nvSpPr>
          <p:spPr>
            <a:xfrm>
              <a:off x="1752480" y="4267080"/>
              <a:ext cx="1067040" cy="1905120"/>
            </a:xfrm>
            <a:prstGeom prst="rect">
              <a:avLst/>
            </a:prstGeom>
            <a:solidFill>
              <a:srgbClr val="377b89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PC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6781680" y="4267080"/>
              <a:ext cx="1067040" cy="1905120"/>
            </a:xfrm>
            <a:prstGeom prst="rect">
              <a:avLst/>
            </a:prstGeom>
            <a:solidFill>
              <a:srgbClr val="377b89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Atmega32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4647960" y="4267080"/>
              <a:ext cx="1066680" cy="1905120"/>
            </a:xfrm>
            <a:prstGeom prst="rect">
              <a:avLst/>
            </a:prstGeom>
            <a:solidFill>
              <a:srgbClr val="377b89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USBN9604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15000" y="5029200"/>
              <a:ext cx="1066680" cy="380880"/>
            </a:xfrm>
            <a:prstGeom prst="leftRightArrow">
              <a:avLst>
                <a:gd name="adj1" fmla="val 50000"/>
                <a:gd name="adj2" fmla="val 55752"/>
              </a:avLst>
            </a:prstGeom>
            <a:noFill/>
            <a:ln cap="sq"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19720" y="3200400"/>
              <a:ext cx="3657600" cy="3200400"/>
            </a:xfrm>
            <a:prstGeom prst="rect">
              <a:avLst/>
            </a:prstGeom>
            <a:noFill/>
            <a:ln w="1908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67080" y="5029200"/>
              <a:ext cx="304920" cy="152280"/>
            </a:xfrm>
            <a:prstGeom prst="rect">
              <a:avLst/>
            </a:prstGeom>
            <a:solidFill>
              <a:srgbClr val="969696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3200" y="5029200"/>
              <a:ext cx="304920" cy="152280"/>
            </a:xfrm>
            <a:prstGeom prst="rect">
              <a:avLst/>
            </a:prstGeom>
            <a:solidFill>
              <a:srgbClr val="969696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48320" y="3352680"/>
              <a:ext cx="1523880" cy="685800"/>
            </a:xfrm>
            <a:prstGeom prst="rect">
              <a:avLst/>
            </a:prstGeom>
            <a:solidFill>
              <a:srgbClr val="377b89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80808"/>
                  </a:solidFill>
                  <a:latin typeface="Arial"/>
                </a:rPr>
                <a:t>MAX233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3200" y="4800600"/>
              <a:ext cx="304920" cy="152280"/>
            </a:xfrm>
            <a:prstGeom prst="rect">
              <a:avLst/>
            </a:prstGeom>
            <a:solidFill>
              <a:srgbClr val="969696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7080" y="3581280"/>
              <a:ext cx="304920" cy="152640"/>
            </a:xfrm>
            <a:prstGeom prst="rect">
              <a:avLst/>
            </a:prstGeom>
            <a:solidFill>
              <a:srgbClr val="969696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8120" y="3657600"/>
              <a:ext cx="1218960" cy="1422360"/>
            </a:xfrm>
            <a:custGeom>
              <a:avLst/>
              <a:gdLst/>
              <a:ahLst/>
              <a:rect l="l" t="t" r="r" b="b"/>
              <a:pathLst>
                <a:path w="768" h="896">
                  <a:moveTo>
                    <a:pt x="768" y="0"/>
                  </a:moveTo>
                  <a:cubicBezTo>
                    <a:pt x="664" y="320"/>
                    <a:pt x="560" y="640"/>
                    <a:pt x="432" y="768"/>
                  </a:cubicBezTo>
                  <a:cubicBezTo>
                    <a:pt x="304" y="896"/>
                    <a:pt x="72" y="768"/>
                    <a:pt x="0" y="768"/>
                  </a:cubicBezTo>
                </a:path>
              </a:pathLst>
            </a:custGeom>
            <a:noFill/>
            <a:ln cap="sq" w="255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48120" y="5105520"/>
              <a:ext cx="1218960" cy="304560"/>
            </a:xfrm>
            <a:custGeom>
              <a:avLst/>
              <a:gdLst/>
              <a:ahLst/>
              <a:rect l="l" t="t" r="r" b="b"/>
              <a:pathLst>
                <a:path w="768" h="192">
                  <a:moveTo>
                    <a:pt x="768" y="0"/>
                  </a:moveTo>
                  <a:cubicBezTo>
                    <a:pt x="592" y="96"/>
                    <a:pt x="416" y="192"/>
                    <a:pt x="288" y="192"/>
                  </a:cubicBezTo>
                  <a:cubicBezTo>
                    <a:pt x="160" y="192"/>
                    <a:pt x="48" y="32"/>
                    <a:pt x="0" y="0"/>
                  </a:cubicBezTo>
                </a:path>
              </a:pathLst>
            </a:custGeom>
            <a:noFill/>
            <a:ln cap="sq" w="255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39000" y="537048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80808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7953800">
              <a:off x="3264120" y="426744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80808"/>
                  </a:solidFill>
                  <a:latin typeface="Arial"/>
                </a:rPr>
                <a:t>RS232</a:t>
              </a: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6458040" y="3295080"/>
              <a:ext cx="685800" cy="1257480"/>
            </a:xfrm>
            <a:custGeom>
              <a:avLst/>
              <a:gdLst>
                <a:gd name="textAreaLeft" fmla="*/ 142920 w 685800"/>
                <a:gd name="textAreaRight" fmla="*/ 615960 w 685800"/>
                <a:gd name="textAreaTop" fmla="*/ 978120 h 1257480"/>
                <a:gd name="textAreaBottom" fmla="*/ 1129680 h 125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100"/>
                  </a:moveTo>
                  <a:lnTo>
                    <a:pt x="4500" y="14600"/>
                  </a:lnTo>
                  <a:lnTo>
                    <a:pt x="4500" y="16800"/>
                  </a:lnTo>
                  <a:lnTo>
                    <a:pt x="16800" y="16800"/>
                  </a:lnTo>
                  <a:lnTo>
                    <a:pt x="16800" y="4500"/>
                  </a:lnTo>
                  <a:lnTo>
                    <a:pt x="14600" y="4500"/>
                  </a:lnTo>
                  <a:lnTo>
                    <a:pt x="18100" y="0"/>
                  </a:lnTo>
                  <a:lnTo>
                    <a:pt x="21600" y="4500"/>
                  </a:lnTo>
                  <a:lnTo>
                    <a:pt x="19400" y="4500"/>
                  </a:lnTo>
                  <a:lnTo>
                    <a:pt x="19400" y="19400"/>
                  </a:lnTo>
                  <a:lnTo>
                    <a:pt x="4500" y="19400"/>
                  </a:lnTo>
                  <a:lnTo>
                    <a:pt x="4500" y="21600"/>
                  </a:lnTo>
                  <a:close/>
                </a:path>
              </a:pathLst>
            </a:custGeom>
            <a:noFill/>
            <a:ln cap="sq"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1000" y="5486400"/>
              <a:ext cx="228600" cy="457200"/>
            </a:xfrm>
            <a:prstGeom prst="rect">
              <a:avLst/>
            </a:prstGeom>
            <a:solidFill>
              <a:srgbClr val="969696"/>
            </a:solidFill>
            <a:ln cap="sq"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81880" y="5595840"/>
              <a:ext cx="622440" cy="195480"/>
            </a:xfrm>
            <a:custGeom>
              <a:avLst/>
              <a:gdLst/>
              <a:ahLst/>
              <a:rect l="l" t="t" r="r" b="b"/>
              <a:pathLst>
                <a:path w="462" h="155">
                  <a:moveTo>
                    <a:pt x="0" y="60"/>
                  </a:moveTo>
                  <a:cubicBezTo>
                    <a:pt x="9" y="57"/>
                    <a:pt x="19" y="45"/>
                    <a:pt x="26" y="51"/>
                  </a:cubicBezTo>
                  <a:cubicBezTo>
                    <a:pt x="36" y="58"/>
                    <a:pt x="29" y="75"/>
                    <a:pt x="34" y="86"/>
                  </a:cubicBezTo>
                  <a:cubicBezTo>
                    <a:pt x="42" y="107"/>
                    <a:pt x="54" y="115"/>
                    <a:pt x="69" y="129"/>
                  </a:cubicBezTo>
                  <a:cubicBezTo>
                    <a:pt x="167" y="94"/>
                    <a:pt x="134" y="155"/>
                    <a:pt x="146" y="0"/>
                  </a:cubicBezTo>
                  <a:cubicBezTo>
                    <a:pt x="150" y="12"/>
                    <a:pt x="163" y="53"/>
                    <a:pt x="172" y="60"/>
                  </a:cubicBezTo>
                  <a:cubicBezTo>
                    <a:pt x="186" y="71"/>
                    <a:pt x="223" y="77"/>
                    <a:pt x="223" y="77"/>
                  </a:cubicBezTo>
                  <a:cubicBezTo>
                    <a:pt x="248" y="102"/>
                    <a:pt x="259" y="130"/>
                    <a:pt x="283" y="155"/>
                  </a:cubicBezTo>
                  <a:cubicBezTo>
                    <a:pt x="292" y="152"/>
                    <a:pt x="306" y="155"/>
                    <a:pt x="309" y="146"/>
                  </a:cubicBezTo>
                  <a:cubicBezTo>
                    <a:pt x="343" y="55"/>
                    <a:pt x="281" y="50"/>
                    <a:pt x="352" y="69"/>
                  </a:cubicBezTo>
                  <a:cubicBezTo>
                    <a:pt x="366" y="107"/>
                    <a:pt x="363" y="117"/>
                    <a:pt x="404" y="103"/>
                  </a:cubicBezTo>
                  <a:cubicBezTo>
                    <a:pt x="413" y="106"/>
                    <a:pt x="421" y="114"/>
                    <a:pt x="430" y="112"/>
                  </a:cubicBezTo>
                  <a:cubicBezTo>
                    <a:pt x="462" y="105"/>
                    <a:pt x="435" y="81"/>
                    <a:pt x="455" y="103"/>
                  </a:cubicBezTo>
                </a:path>
              </a:pathLst>
            </a:custGeom>
            <a:noFill/>
            <a:ln cap="sq" w="2232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81880" y="5867280"/>
              <a:ext cx="609840" cy="0"/>
            </a:xfrm>
            <a:prstGeom prst="line">
              <a:avLst/>
            </a:prstGeom>
            <a:ln cap="sq" w="25560">
              <a:solidFill>
                <a:srgbClr val="080808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8381880" y="5486400"/>
              <a:ext cx="0" cy="380880"/>
            </a:xfrm>
            <a:prstGeom prst="line">
              <a:avLst/>
            </a:prstGeom>
            <a:ln cap="sq" w="25560">
              <a:solidFill>
                <a:srgbClr val="080808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601-71AA-4D31-B706-D298E885D9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USB - Basic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038480" y="1676520"/>
            <a:ext cx="4876560" cy="1721880"/>
            <a:chOff x="4038480" y="1676520"/>
            <a:chExt cx="4876560" cy="1721880"/>
          </a:xfrm>
        </p:grpSpPr>
        <p:sp>
          <p:nvSpPr>
            <p:cNvPr id="113" name=""/>
            <p:cNvSpPr/>
            <p:nvPr/>
          </p:nvSpPr>
          <p:spPr>
            <a:xfrm>
              <a:off x="5759640" y="1676520"/>
              <a:ext cx="5742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80808"/>
                  </a:solidFill>
                  <a:latin typeface="Arial"/>
                </a:rPr>
                <a:t>Host</a:t>
              </a:r>
              <a:endParaRPr b="0" lang="en-US" sz="1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59640" y="3111120"/>
              <a:ext cx="574200" cy="2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80808"/>
                  </a:solidFill>
                  <a:latin typeface="Arial"/>
                </a:rPr>
                <a:t>Node</a:t>
              </a:r>
              <a:endParaRPr b="0" lang="en-US" sz="1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20400" y="3111120"/>
              <a:ext cx="5742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80808"/>
                  </a:solidFill>
                  <a:latin typeface="Arial"/>
                </a:rPr>
                <a:t>Node</a:t>
              </a:r>
              <a:endParaRPr b="0" lang="en-US" sz="1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8480" y="3110400"/>
              <a:ext cx="574200" cy="2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80808"/>
                  </a:solidFill>
                  <a:latin typeface="Arial"/>
                </a:rPr>
                <a:t>Node</a:t>
              </a:r>
              <a:endParaRPr b="0" lang="en-US" sz="1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98880" y="3110400"/>
              <a:ext cx="5742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80808"/>
                  </a:solidFill>
                  <a:latin typeface="Arial"/>
                </a:rPr>
                <a:t>Node</a:t>
              </a:r>
              <a:endParaRPr b="0" lang="en-US" sz="1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98880" y="2395080"/>
              <a:ext cx="574200" cy="2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80808"/>
                  </a:solidFill>
                  <a:latin typeface="Arial"/>
                </a:rPr>
                <a:t>Hub</a:t>
              </a:r>
              <a:endParaRPr b="0" lang="en-US" sz="1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19680" y="2395080"/>
              <a:ext cx="5742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80808"/>
                  </a:solidFill>
                  <a:latin typeface="Arial"/>
                </a:rPr>
                <a:t>Hub</a:t>
              </a:r>
              <a:endParaRPr b="0" lang="en-US" sz="1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80080" y="3111120"/>
              <a:ext cx="574560" cy="28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80808"/>
                  </a:solidFill>
                  <a:latin typeface="Arial"/>
                </a:rPr>
                <a:t>Node</a:t>
              </a:r>
              <a:endParaRPr b="0" lang="en-US" sz="1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40840" y="3111120"/>
              <a:ext cx="57420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80808"/>
                  </a:solidFill>
                  <a:latin typeface="Arial"/>
                </a:rPr>
                <a:t>Node</a:t>
              </a:r>
              <a:endParaRPr b="0" lang="en-US" sz="1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cxnSp>
          <p:nvCxnSpPr>
            <p:cNvPr id="122" name=""/>
            <p:cNvCxnSpPr>
              <a:stCxn id="113" idx="2"/>
              <a:endCxn id="118" idx="0"/>
            </p:cNvCxnSpPr>
            <p:nvPr/>
          </p:nvCxnSpPr>
          <p:spPr>
            <a:xfrm rot="5400000">
              <a:off x="5400720" y="1748880"/>
              <a:ext cx="431640" cy="86112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13" idx="2"/>
              <a:endCxn id="119" idx="0"/>
            </p:cNvCxnSpPr>
            <p:nvPr/>
          </p:nvCxnSpPr>
          <p:spPr>
            <a:xfrm flipH="1" rot="16200000">
              <a:off x="6260760" y="1748880"/>
              <a:ext cx="431640" cy="860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18" idx="2"/>
              <a:endCxn id="116" idx="0"/>
            </p:cNvCxnSpPr>
            <p:nvPr/>
          </p:nvCxnSpPr>
          <p:spPr>
            <a:xfrm rot="5400000">
              <a:off x="4541040" y="2465280"/>
              <a:ext cx="429120" cy="86148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18" idx="2"/>
              <a:endCxn id="117" idx="0"/>
            </p:cNvCxnSpPr>
            <p:nvPr/>
          </p:nvCxnSpPr>
          <p:spPr>
            <a:xfrm flipV="1" rot="10800000">
              <a:off x="5185800" y="2681280"/>
              <a:ext cx="1440" cy="429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18" idx="2"/>
              <a:endCxn id="114" idx="0"/>
            </p:cNvCxnSpPr>
            <p:nvPr/>
          </p:nvCxnSpPr>
          <p:spPr>
            <a:xfrm flipH="1" rot="16200000">
              <a:off x="5402160" y="2465640"/>
              <a:ext cx="429840" cy="86112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19" idx="2"/>
              <a:endCxn id="115" idx="0"/>
            </p:cNvCxnSpPr>
            <p:nvPr/>
          </p:nvCxnSpPr>
          <p:spPr>
            <a:xfrm flipH="1" rot="16200000">
              <a:off x="6693480" y="2896200"/>
              <a:ext cx="429120" cy="1440"/>
            </a:xfrm>
            <a:prstGeom prst="bentConnector3">
              <a:avLst>
                <a:gd name="adj1" fmla="val 4979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19" idx="2"/>
              <a:endCxn id="120" idx="0"/>
            </p:cNvCxnSpPr>
            <p:nvPr/>
          </p:nvCxnSpPr>
          <p:spPr>
            <a:xfrm flipH="1" rot="16200000">
              <a:off x="7123320" y="2466360"/>
              <a:ext cx="429120" cy="861120"/>
            </a:xfrm>
            <a:prstGeom prst="bentConnector3">
              <a:avLst>
                <a:gd name="adj1" fmla="val 4979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19" idx="2"/>
              <a:endCxn id="121" idx="0"/>
            </p:cNvCxnSpPr>
            <p:nvPr/>
          </p:nvCxnSpPr>
          <p:spPr>
            <a:xfrm flipH="1" rot="16200000">
              <a:off x="7552800" y="2036160"/>
              <a:ext cx="429120" cy="1721880"/>
            </a:xfrm>
            <a:prstGeom prst="bentConnector3">
              <a:avLst>
                <a:gd name="adj1" fmla="val 4979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rchitectur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ransfer typ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control transf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nterrupt transf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bulk transfer (used in our design)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isochronous transfer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129-1D66-4C71-9456-7D1F913D42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USB – Node devic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1844640"/>
            <a:ext cx="1158840" cy="479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Arial"/>
              </a:rPr>
              <a:t>device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00480" y="3024360"/>
            <a:ext cx="1409400" cy="48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Configuration1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13160" y="3763800"/>
            <a:ext cx="1160280" cy="4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Interface1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00480" y="5364000"/>
            <a:ext cx="1303200" cy="4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Configuration1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54800" y="1523880"/>
            <a:ext cx="2460600" cy="112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Product I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Vendor I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Product nam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Vendor nam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Version number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37120" y="4403880"/>
            <a:ext cx="18828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Endpoint 0 (Control)</a:t>
            </a:r>
            <a:r>
              <a:rPr b="0" lang="de-DE" sz="1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37120" y="4670280"/>
            <a:ext cx="10159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Endpoint1</a:t>
            </a:r>
            <a:r>
              <a:rPr b="0" lang="de-DE" sz="1000" spc="-1" strike="noStrike">
                <a:solidFill>
                  <a:srgbClr val="080808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2" idx="2"/>
            <a:endCxn id="133" idx="1"/>
          </p:cNvCxnSpPr>
          <p:nvPr/>
        </p:nvCxnSpPr>
        <p:spPr>
          <a:xfrm flipH="1" rot="16200000">
            <a:off x="1857240" y="2721960"/>
            <a:ext cx="942120" cy="14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2" idx="2"/>
            <a:endCxn id="135" idx="1"/>
          </p:cNvCxnSpPr>
          <p:nvPr/>
        </p:nvCxnSpPr>
        <p:spPr>
          <a:xfrm flipH="1" rot="16200000">
            <a:off x="688320" y="3891240"/>
            <a:ext cx="3280320" cy="1454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41" name=""/>
          <p:cNvCxnSpPr>
            <a:stCxn id="133" idx="2"/>
            <a:endCxn id="134" idx="1"/>
          </p:cNvCxnSpPr>
          <p:nvPr/>
        </p:nvCxnSpPr>
        <p:spPr>
          <a:xfrm flipH="1" rot="16200000">
            <a:off x="3008880" y="3600720"/>
            <a:ext cx="500760" cy="30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4135320" y="4991040"/>
            <a:ext cx="10162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Endpoint2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4" idx="2"/>
            <a:endCxn id="137" idx="1"/>
          </p:cNvCxnSpPr>
          <p:nvPr/>
        </p:nvCxnSpPr>
        <p:spPr>
          <a:xfrm flipH="1" rot="16200000">
            <a:off x="3891600" y="4346280"/>
            <a:ext cx="34668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4" idx="2"/>
            <a:endCxn id="138" idx="1"/>
          </p:cNvCxnSpPr>
          <p:nvPr/>
        </p:nvCxnSpPr>
        <p:spPr>
          <a:xfrm flipH="1" rot="16200000">
            <a:off x="3758400" y="4479840"/>
            <a:ext cx="6134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4" idx="2"/>
            <a:endCxn id="142" idx="1"/>
          </p:cNvCxnSpPr>
          <p:nvPr/>
        </p:nvCxnSpPr>
        <p:spPr>
          <a:xfrm flipH="1" rot="16200000">
            <a:off x="3597840" y="4640760"/>
            <a:ext cx="934200" cy="141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454800" y="2803680"/>
            <a:ext cx="2460600" cy="93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Power consumption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BUS- powered/ self powered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Number of interface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54800" y="3924360"/>
            <a:ext cx="246060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Number of endpoint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Alternative interface flag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54800" y="5045040"/>
            <a:ext cx="2460600" cy="95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Data direction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Address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FIFO siz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80808"/>
                </a:solidFill>
                <a:latin typeface="Arial"/>
              </a:rPr>
              <a:t>- Transfer type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35" idx="2"/>
          </p:cNvCxnSpPr>
          <p:nvPr/>
        </p:nvCxnSpPr>
        <p:spPr>
          <a:xfrm flipH="1" rot="16200000">
            <a:off x="3065040" y="5831280"/>
            <a:ext cx="479880" cy="5068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0" name=""/>
          <p:cNvCxnSpPr>
            <a:stCxn id="132" idx="3"/>
            <a:endCxn id="136" idx="1"/>
          </p:cNvCxnSpPr>
          <p:nvPr/>
        </p:nvCxnSpPr>
        <p:spPr>
          <a:xfrm>
            <a:off x="2835360" y="2084040"/>
            <a:ext cx="36201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3" idx="3"/>
            <a:endCxn id="146" idx="1"/>
          </p:cNvCxnSpPr>
          <p:nvPr/>
        </p:nvCxnSpPr>
        <p:spPr>
          <a:xfrm>
            <a:off x="3809520" y="3265200"/>
            <a:ext cx="2645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2" idx="2"/>
            <a:endCxn id="148" idx="1"/>
          </p:cNvCxnSpPr>
          <p:nvPr/>
        </p:nvCxnSpPr>
        <p:spPr>
          <a:xfrm flipH="1" rot="16200000">
            <a:off x="5468760" y="4538160"/>
            <a:ext cx="161280" cy="181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7" idx="1"/>
          </p:cNvCxnSpPr>
          <p:nvPr/>
        </p:nvCxnSpPr>
        <p:spPr>
          <a:xfrm>
            <a:off x="4573440" y="4003560"/>
            <a:ext cx="1882080" cy="34848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9160-7950-4BE1-BF9A-8EB86F358D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USBN9604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700280" y="1781280"/>
            <a:ext cx="703908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E62-8218-4BF2-BD0A-8221E35D78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Schematic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491D-D424-487F-B2FA-6715B94A6F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libusb-win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PI to access usb device in windows </a:t>
            </a: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eg.: usb_write(usbdevice, endpoint, transmission type, data, length)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reating a win – driv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no win - documentation available!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lternative: jugo windrive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54A-3801-46C3-8877-D1E971C615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rst architecture without additional node controller failed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ebugging of USB core very difficul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added RS232 Interfac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inker problems with lib usb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driver problems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B37-9198-40F3-BA5B-296B65412B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2:04:00Z</dcterms:created>
  <dc:creator>Muhammad Junaid Gill</dc:creator>
  <dc:description/>
  <dc:language>en-US</dc:language>
  <cp:lastModifiedBy>Mayr Bernhard</cp:lastModifiedBy>
  <dcterms:modified xsi:type="dcterms:W3CDTF">2007-02-28T16:23:41Z</dcterms:modified>
  <cp:revision>83</cp:revision>
  <dc:subject/>
  <dc:title>PLL/ DLL</dc:title>
</cp:coreProperties>
</file>